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495-C662-4AF2-BE31-1ECB12D8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6DD-6464-4A65-95E2-0C7EB82A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A51-E76D-43EB-8690-9A56045A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64A-1ACE-407F-BEA5-254C274F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31EB-2FB3-4F43-A7D9-C7EA4FEB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DA33-24AB-41F5-AF7E-CD219CEC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1C7D-2F5D-4F69-A272-A44BC0BF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FA4D-86E5-46C8-B7CE-6BF3D11D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253E-276B-4130-930C-D1A82635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FA5A-C326-4FC1-AE5A-95FAB332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DD44-47A3-4DD4-BE41-FCC0859D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08C-CF3B-48B1-A6D8-55BD58CC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6E51-EC55-4D70-9869-55CA2E28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798F-1A61-4E1D-A2A2-16B9C69B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BF21-BAB2-42D9-BCCB-E4B25951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7268-09EF-4997-833D-283D9F26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9D14-690F-41D8-868E-4169E5A1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6171B-3DE3-43BC-836C-AB8FA39F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C01D9-DCA4-4020-A48F-8C3DD038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E0E63-53BC-4CE9-B85E-D7839AB8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488CE-CFC7-4E62-B96C-61E7E420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E02F6-BA28-44E1-978E-B41A26E9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E84-C95C-45AE-B7BA-A24CEE18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8CDFE-A500-4FD6-9600-5FAF3CC8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F02AD-E1BE-4AF8-A286-59AC25A7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950A0-4B82-463A-9111-84178F89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121E8-C4DC-4B99-ACC3-520AD2E0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FDCC7-8DE9-420C-B6DC-E3594AB2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2917A-6330-4483-9CBF-FF672477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07E4E-8988-44DA-A3C7-D7E7CA5F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3A7B4-E7BD-4864-9836-C560CB78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836A-B9D1-40F9-A194-86796F68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9C2A-DB40-42AF-82E6-652EE8E3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CD9-AAC9-47AB-8FB1-FF78C1AB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1BCF-8C78-4F6C-818B-A2630DCA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09BC9-7CA9-4B60-90BB-DDD68DD7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F28E7-8714-4CB2-BC58-A6F5E059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07A5-AE19-4418-A329-36CBD56A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280DA-3852-4C84-9F75-6E449581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13177-12F6-40D1-AA0C-2A9E77F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A362F-0195-44E1-B33E-BCD4130F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6684F-ABCC-4EE9-8CCF-55F86111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0C013-2A4C-4481-A723-F11AAD3A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5B8-5006-4195-A81D-CCB09C07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329-C971-4273-8D1D-8D974E65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715-7ABE-48F8-A48A-41E8FBE7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A28-7728-41F3-A0AD-94E6D703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B02-5878-41DA-92B5-9C061F7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99F5-2A6E-45D1-B562-9ED6F6EE5A0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67c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3D76-BAE6-434D-AD9B-4A8C31F04ED1}" type="slidenum">
              <a:rPr b="0" lang="en-US" sz="1200" spc="-1" strike="noStrike">
                <a:solidFill>
                  <a:srgbClr val="4e67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0CE5-15CF-4BFF-BBEE-D6FD15C523EB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E282-451C-4CCC-A32D-A9E70F000DEA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Do Now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Record the following prompt on you Do Now sheet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With a partner discuss: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Arial"/>
              </a:rPr>
              <a:t>What someone might say to refute or disprove your argument.</a:t>
            </a:r>
            <a:endParaRPr b="0" lang="en-US" sz="22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Arial"/>
              </a:rPr>
              <a:t>Record one thing you and your partner discussed</a:t>
            </a:r>
            <a:endParaRPr b="0" lang="en-US" sz="22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On your own…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ontinue working on your paper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0" y="2707920"/>
            <a:ext cx="365760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67c8"/>
                </a:solidFill>
                <a:latin typeface="Arial Black"/>
              </a:rPr>
              <a:t>Counterclaim</a:t>
            </a:r>
            <a:endParaRPr b="0" lang="en-US" sz="36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8</a:t>
            </a:r>
            <a:r>
              <a:rPr b="0" lang="en-US" sz="1800" spc="-1" strike="noStrike" baseline="30000">
                <a:solidFill>
                  <a:srgbClr val="424242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 Grade Language Arts</a:t>
            </a:r>
            <a:endParaRPr b="0" lang="en-US" sz="18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e67c8"/>
                </a:solidFill>
                <a:latin typeface="Arial Black"/>
              </a:rPr>
              <a:t>The Argumentative Essay</a:t>
            </a:r>
            <a:endParaRPr b="0" lang="en-US" sz="43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1447560"/>
            <a:ext cx="807696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10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Uses evidence to </a:t>
            </a:r>
            <a:r>
              <a:rPr b="1" lang="en-US" sz="4400" spc="-1" strike="noStrike" u="sng">
                <a:solidFill>
                  <a:srgbClr val="212745"/>
                </a:solidFill>
                <a:uFillTx/>
                <a:latin typeface="Arial"/>
              </a:rPr>
              <a:t>both </a:t>
            </a: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show one’s own position </a:t>
            </a:r>
            <a:r>
              <a:rPr b="1" lang="en-US" sz="4400" spc="-1" strike="noStrike" u="sng">
                <a:solidFill>
                  <a:srgbClr val="212745"/>
                </a:solidFill>
                <a:uFillTx/>
                <a:latin typeface="Arial"/>
              </a:rPr>
              <a:t>and</a:t>
            </a: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 to refute the opposing argument.</a:t>
            </a:r>
            <a:endParaRPr b="0" lang="en-US" sz="4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41" name="Picture 5" descr="C:\Users\lgoodine\AppData\Local\Microsoft\Windows\Temporary Internet Files\Content.IE5\NZSFGQJ0\Web_Proof[1].jpg"/>
          <p:cNvPicPr/>
          <p:nvPr/>
        </p:nvPicPr>
        <p:blipFill>
          <a:blip r:embed="rId1"/>
          <a:srcRect l="19083" t="16849" r="15569" b="15442"/>
          <a:stretch/>
        </p:blipFill>
        <p:spPr>
          <a:xfrm>
            <a:off x="2895480" y="4114800"/>
            <a:ext cx="35053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Argument Paper Map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480" y="1142640"/>
            <a:ext cx="83059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1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2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3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Counterclaim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ncluding evidence to refute opposing claim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47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67c8"/>
                </a:solidFill>
                <a:latin typeface="Arial"/>
              </a:rPr>
              <a:t>Use one paragraph for your counterclaim.  Also, be sure to respond to the opposing claim (rebuttal).</a:t>
            </a:r>
            <a:endParaRPr b="0" lang="en-US" sz="2800" spc="-1" strike="noStrike">
              <a:solidFill>
                <a:srgbClr val="4e67c8"/>
              </a:solidFill>
              <a:latin typeface="Arial Black"/>
            </a:endParaRPr>
          </a:p>
        </p:txBody>
      </p:sp>
      <p:pic>
        <p:nvPicPr>
          <p:cNvPr id="345" name="Picture 5" descr="C:\Documents and Settings\markboles\Local Settings\Temporary Internet Files\Content.IE5\LA10XMMH\MP900441090[1].jpg"/>
          <p:cNvPicPr/>
          <p:nvPr/>
        </p:nvPicPr>
        <p:blipFill>
          <a:blip r:embed="rId1"/>
          <a:stretch/>
        </p:blipFill>
        <p:spPr>
          <a:xfrm>
            <a:off x="762120" y="2514600"/>
            <a:ext cx="3659040" cy="3648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C:\Documents and Settings\markboles\Local Settings\Temporary Internet Files\Content.IE5\HFNMJTGB\MP900438312[1].jpg"/>
          <p:cNvPicPr/>
          <p:nvPr/>
        </p:nvPicPr>
        <p:blipFill>
          <a:blip r:embed="rId2"/>
          <a:stretch/>
        </p:blipFill>
        <p:spPr>
          <a:xfrm>
            <a:off x="4648320" y="2514600"/>
            <a:ext cx="38098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ounterclaim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A claim made to offset or disprove another claim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49" name="Picture 2" descr="C:\Users\lgoodine\AppData\Local\Microsoft\Windows\Temporary Internet Files\Content.IE5\9ESAO2XW\show-me-the-evidence[1].png"/>
          <p:cNvPicPr/>
          <p:nvPr/>
        </p:nvPicPr>
        <p:blipFill>
          <a:blip r:embed="rId1"/>
          <a:srcRect l="0" t="0" r="28270" b="0"/>
          <a:stretch/>
        </p:blipFill>
        <p:spPr>
          <a:xfrm>
            <a:off x="2209680" y="3352680"/>
            <a:ext cx="498816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Refute your counterclaim!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09120" y="13712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chools should continue selling chocolate milk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ounter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hocolate milk has a lot of added sugar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Refute</a:t>
            </a: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 the Counter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Although chocolate milk has more sugar than plain low-fat milk, students are still getting a serving of Calcium, and Vitamins A and D, which are valuable to their heath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52" name="Picture 3" descr="C:\Users\lgoodine\AppData\Local\Microsoft\Windows\Temporary Internet Files\Content.IE5\NZSFGQJ0\8ozRoundBottles[1].jpg"/>
          <p:cNvPicPr/>
          <p:nvPr/>
        </p:nvPicPr>
        <p:blipFill>
          <a:blip r:embed="rId1"/>
          <a:stretch/>
        </p:blipFill>
        <p:spPr>
          <a:xfrm>
            <a:off x="2133720" y="4114800"/>
            <a:ext cx="51051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Refute your counterclaim!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3520" y="12193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laim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: Physical education should be required by students everyday in school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ounterclaim: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 Requiring physical education every day will make it more difficult for students to take other elective classes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Refute</a:t>
            </a: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 the counterclaim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: Although requiring students to take physical education everyday may not allow students to take all the electives they want, students will be dramatically healthier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55" name="Picture 9" descr="http://sports.pppst.com/banner_pe2.gif"/>
          <p:cNvPicPr/>
          <p:nvPr/>
        </p:nvPicPr>
        <p:blipFill>
          <a:blip r:embed="rId1"/>
          <a:stretch/>
        </p:blipFill>
        <p:spPr>
          <a:xfrm>
            <a:off x="457200" y="4648320"/>
            <a:ext cx="80773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Together…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omplete the Counterclaim worksheet by writing possible counterclaims for each topic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1:53:34Z</dcterms:created>
  <dc:creator>Ed Garrison</dc:creator>
  <dc:description/>
  <dc:language>en-US</dc:language>
  <cp:lastModifiedBy>Goodine, Lindsey</cp:lastModifiedBy>
  <cp:lastPrinted>2015-02-13T12:44:39Z</cp:lastPrinted>
  <dcterms:modified xsi:type="dcterms:W3CDTF">2015-02-13T12:54:54Z</dcterms:modified>
  <cp:revision>10</cp:revision>
  <dc:subject/>
  <dc:title>Writing Part 4:   Argument Writing</dc:title>
</cp:coreProperties>
</file>